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623-57F0-4D6B-B2FE-99B8070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DC8-FD7B-4611-859E-BE454AA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543-282B-49F3-BBF2-CB26C6A4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476-4EB9-4374-9F35-8616F30B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BDE-D1D2-4EE8-BAD5-5B0019B2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DC14-6BA4-4535-AC4F-31D4ED4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7051-0226-49E8-89FD-8A0C45F4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BAB2-E3FD-449B-A2D3-F510ECCE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8C2-6072-4469-BA46-24410804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3D9-8D1C-479B-AC99-D744E6D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CC2-2055-46B2-ADFA-D82955B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D1E-5621-4739-8426-7CB1BB1E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81B6-1BE0-4AD7-9D63-67D1996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379C-CBB7-4367-B4AE-4C292F7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C6EF-CF45-4F23-8C11-7A47123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5EA9-F05A-475E-95C8-E578A718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8149-4E5A-423B-9237-821789C3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7C8-D901-4A0F-928D-1D91F508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86B-9EA2-4A25-883E-70E567D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3B6-D530-4E53-B264-6A50A59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123-B7C6-4E2D-A9F0-C5AF488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183-C96D-40B8-A024-0EEA6DE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899-B52A-4C50-96F3-13D921A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0E4-47FE-4176-B4D4-72F824D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1ABF-6BD6-4673-9EED-C64C8465B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42F-6231-4127-982B-B8822584A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whitetail-deer-buck"/>
          <p:cNvPicPr/>
          <p:nvPr/>
        </p:nvPicPr>
        <p:blipFill>
          <a:blip r:embed="rId1"/>
          <a:stretch/>
        </p:blipFill>
        <p:spPr>
          <a:xfrm>
            <a:off x="3429000" y="1752480"/>
            <a:ext cx="54100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ting season (rut) begins in September and can last into Janu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abit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ceal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ush is most efficiently created by </a:t>
            </a:r>
            <a:r>
              <a:rPr b="0" lang="en-US" sz="3600" spc="-1" strike="noStrike">
                <a:solidFill>
                  <a:srgbClr val="cccc00"/>
                </a:solidFill>
                <a:latin typeface="Times New Roman"/>
              </a:rPr>
              <a:t>clear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ting all trees larger than sap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http://www.gotpetsonline.com/pictures-gallery/exotic-pictures-breeders-babies/whitetail-deer-pictures-breeders-babies/pictures/whitetail-deer-0007.jpg"/>
          <p:cNvPicPr/>
          <p:nvPr/>
        </p:nvPicPr>
        <p:blipFill>
          <a:blip r:embed="rId1"/>
          <a:stretch/>
        </p:blipFill>
        <p:spPr>
          <a:xfrm>
            <a:off x="5562720" y="4319640"/>
            <a:ext cx="3047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Odocoileus virginianu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underside of tail is covered with white hai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long to family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Cervida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(includes elk, moose, and caribou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lit hoof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Whitetail%20Deer%20tail"/>
          <p:cNvPicPr/>
          <p:nvPr/>
        </p:nvPicPr>
        <p:blipFill>
          <a:blip r:embed="rId1"/>
          <a:stretch/>
        </p:blipFill>
        <p:spPr>
          <a:xfrm>
            <a:off x="6875640" y="3809880"/>
            <a:ext cx="22683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ite-tailed De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Ruminant animal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4-chambered stomach and frequently chew a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“cud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les grow &amp; shed a set of antlers year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in PA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Northern Woodland Whitetai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aw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orn with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white spo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 camouflage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(looks like sun hitting the ground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http://whyfiles.org/156cwd_deer/images/faw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0388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re used extensively by Native Americans for food and cl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brought to record low by late 1800’s due to extensive clearing of land, unregulated hunting, and loss of habi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has rebounded dramatically due to changing land uses, strict game laws, and a lack of large natural pred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638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verage adult buck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40 poun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nds 32-34 inches at the should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70 inches long from nose to tai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http://www.agfc.com/critters/gallery/deer/deer4_big.jpg"/>
          <p:cNvPicPr/>
          <p:nvPr/>
        </p:nvPicPr>
        <p:blipFill>
          <a:blip r:embed="rId1"/>
          <a:stretch/>
        </p:blipFill>
        <p:spPr>
          <a:xfrm>
            <a:off x="5638680" y="1295280"/>
            <a:ext cx="3303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n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orbli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asily alerted by move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od senses of smell &amp; hear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ually sil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ler Growt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91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set of antlers grows at 10 months o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the buck comes from an area with poor food conditions, first antlers will b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“spikes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(single, main beams only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www.sportshows.com/images/worcfe1.jpg"/>
          <p:cNvPicPr/>
          <p:nvPr/>
        </p:nvPicPr>
        <p:blipFill>
          <a:blip r:embed="rId1"/>
          <a:stretch/>
        </p:blipFill>
        <p:spPr>
          <a:xfrm>
            <a:off x="5856120" y="1143000"/>
            <a:ext cx="32878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ler Growth 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(cont.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6095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owing antlers are covered by a skin called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“velvet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tler cycle is influenced by secretions from th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ituitary gl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www.coueswhitetail.com/coues_biology/buck%20in%20velvet%20swrs%20jpg_small.JPG"/>
          <p:cNvPicPr/>
          <p:nvPr/>
        </p:nvPicPr>
        <p:blipFill>
          <a:blip r:embed="rId1"/>
          <a:stretch/>
        </p:blipFill>
        <p:spPr>
          <a:xfrm>
            <a:off x="6324480" y="2895480"/>
            <a:ext cx="236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02:56:39Z</dcterms:created>
  <dc:creator>Jason Turri</dc:creator>
  <dc:description/>
  <dc:language>en-US</dc:language>
  <cp:lastModifiedBy>Hazleton Area School District</cp:lastModifiedBy>
  <dcterms:modified xsi:type="dcterms:W3CDTF">2008-11-13T17:30:19Z</dcterms:modified>
  <cp:revision>12</cp:revision>
  <dc:subject/>
  <dc:title>White-tailed Deer</dc:title>
</cp:coreProperties>
</file>